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59.jpeg" ContentType="image/jpeg"/>
  <Override PartName="/ppt/media/image58.jpeg" ContentType="image/jpeg"/>
  <Override PartName="/ppt/media/image57.wmf" ContentType="image/x-wmf"/>
  <Override PartName="/ppt/media/image14.jpeg" ContentType="image/jpeg"/>
  <Override PartName="/ppt/media/image53.wmf" ContentType="image/x-wmf"/>
  <Override PartName="/ppt/media/image6.jpeg" ContentType="image/jpeg"/>
  <Override PartName="/ppt/media/image63.jpeg" ContentType="image/jpeg"/>
  <Override PartName="/ppt/media/image5.jpeg" ContentType="image/jpeg"/>
  <Override PartName="/ppt/media/image50.png" ContentType="image/png"/>
  <Override PartName="/ppt/media/image62.jpeg" ContentType="image/jpeg"/>
  <Override PartName="/ppt/media/image26.jpeg" ContentType="image/jpeg"/>
  <Override PartName="/ppt/media/image2.png" ContentType="image/png"/>
  <Override PartName="/ppt/media/image25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60.jpeg" ContentType="image/jpeg"/>
  <Override PartName="/ppt/media/image52.png" ContentType="image/png"/>
  <Override PartName="/ppt/media/image24.jpeg" ContentType="image/jpeg"/>
  <Override PartName="/ppt/media/image41.jpeg" ContentType="image/jpeg"/>
  <Override PartName="/ppt/media/image15.jpeg" ContentType="image/jpeg"/>
  <Override PartName="/ppt/media/image17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1.jpeg" ContentType="image/jpeg"/>
  <Override PartName="/ppt/media/image32.wmf" ContentType="image/x-wmf"/>
  <Override PartName="/ppt/media/image22.jpeg" ContentType="image/jpeg"/>
  <Override PartName="/ppt/media/image18.jpeg" ContentType="image/jpeg"/>
  <Override PartName="/ppt/media/image16.jpeg" ContentType="image/jpeg"/>
  <Override PartName="/ppt/media/image42.wmf" ContentType="image/x-wmf"/>
  <Override PartName="/ppt/media/image23.jpeg" ContentType="image/jpeg"/>
  <Override PartName="/ppt/media/image1.png" ContentType="image/png"/>
  <Override PartName="/ppt/media/image29.wmf" ContentType="image/x-wmf"/>
  <Override PartName="/ppt/media/image19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31.wmf" ContentType="image/x-wmf"/>
  <Override PartName="/ppt/media/image61.jpeg" ContentType="image/jpeg"/>
  <Override PartName="/ppt/media/image51.png" ContentType="image/png"/>
  <Override PartName="/ppt/media/image4.jpeg" ContentType="image/jpeg"/>
  <Override PartName="/ppt/media/image12.jpeg" ContentType="image/jpeg"/>
  <Override PartName="/ppt/media/image27.jpeg" ContentType="image/jpeg"/>
  <Override PartName="/ppt/media/image10.jpeg" ContentType="image/jpeg"/>
  <Override PartName="/ppt/media/image54.wmf" ContentType="image/x-wmf"/>
  <Override PartName="/ppt/media/image13.jpeg" ContentType="image/jpeg"/>
  <Override PartName="/ppt/media/image40.jpeg" ContentType="image/jpeg"/>
  <Override PartName="/ppt/media/image33.jpeg" ContentType="image/jpeg"/>
  <Override PartName="/ppt/media/image34.wmf" ContentType="image/x-wmf"/>
  <Override PartName="/ppt/media/image36.wmf" ContentType="image/x-wmf"/>
  <Override PartName="/ppt/media/image47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55.png" ContentType="image/png"/>
  <Override PartName="/ppt/media/image20.jpeg" ContentType="image/jpeg"/>
  <Override PartName="/ppt/media/image46.wmf" ContentType="image/x-wmf"/>
  <Override PartName="/ppt/media/image35.wmf" ContentType="image/x-wmf"/>
  <Override PartName="/ppt/media/image48.jpeg" ContentType="image/jpeg"/>
  <Override PartName="/ppt/media/image49.jpeg" ContentType="image/jpeg"/>
  <Override PartName="/ppt/media/image5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0FBBD-031A-4C94-A525-28EA96EB7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ic Models of Thomson and Rutherf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Scatt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 Atomic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hr Model of the Hydroge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cesses and Failures of the Bohr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 X-Ray Spectra and Atomic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Excitation by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4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present first part of the paper the mechanism of the binding of electrons by a positive nucleus is discussed in relation to Planck’s theory. It will be shown that it is possible from the point of view taken to account in a simple way for the law of the line spectrum of hydro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iels Bohr, 19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ic Models of Thomson and Rutherford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Scattering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 Atomic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hr Model of the Hydrogen At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cesses and Failures of the Bohr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 X-Ray Spectra and Atomic Number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Excitation by Electron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4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At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present first part of the paper the mechanism of the binding of electrons by a positive nucleus is discussed in relation to Planck’s theory. It will be shown that it is possible from the point of view taken to account in a simple way for the law of the line spectrum of hydroge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iels Bohr, 1913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particle inside the circle of area πb02 will be similarly scatte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ross section σ = πb2 is related to the probability for a particle being scattered by 1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scattering nuclei per unit are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raction of incident particles scattered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 = ntAs/A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Scatt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particle inside the circle of area πb02 will be similarly scattered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ross section σ = πb2 is related to the probability for a particle being scattered by 1 nucleu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scattering nuclei per unit are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raction of incident particles scattered is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 = ntAs/A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Scattering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ctual experiment a detector is positioned from θ to θ + dθ that corresponds to incident particles between b and b + d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particles scattered per unit area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Scattering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ctual experiment a detector is positioned from θ to θ + dθ that corresponds to incident particles between b and b + db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particles scattered per unit area i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Scattering Equation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3: The Classical Atomic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consider atoms as a planetary mod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ce of attraction on the electron by the nucleus and Newton’s 2nd law g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v is the tangential velocity of the electr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tal energy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3: The Classical Atomic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consider atoms as a planetary model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ce of attraction on the electron by the nucleus and Newton’s 2nd law give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v is the tangential velocity of the electr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tal energy i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Atomic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an atom as a planetary system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wton’s 2nd Law force of attraction on the electron by the nucleus is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v is the tangential velocity of the electron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tal energy is then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negative, so the system is bound, which is good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Atomic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an atom as a planetary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wton’s 2nd Law force of attraction on the electron by the nucleus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v is the tangential velocity of the electr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tal energy is th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negative, so the system is bound, which is g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netary Model is Doo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classical E&amp;M theory, an accelerated electric charge radiates energy (electromagnetic radiation) which means total energy must decrease.           Radius r must decreas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crashes into the nucleus!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had reached a turning point in 1900 with Planck’s hypothesis of the quantum behavior of rad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netary Model is Doomed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classical E&amp;M theory, an accelerated electric charge radiates energy (electromagnetic radiation) which means total energy must decrease.           Radius r must decrease!!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crashes into the nucleus!?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had reached a turning point in 1900 with Planck’s hypothesis of the quantum behavior of radiati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hr Model of the Hydrogen At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general assumptions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Stationary states, in which orbiting electrons do not radiate energy, exist in atoms and have well-defined energies, En. Transitions can occur between them, yielding light of energy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= En − En’ = hn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lassical laws of physics do not apply to transitions between stationary states, but they do apply elsewhere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The angular momentum of the nth state is:     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n is called the Principal Quantum Number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ular momentum is quantized!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hr Model of the Hydroge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general assump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Stationary states, in which orbiting electrons do not radiate energy, exist in atoms and have well-defined energies, En. Transitions can occur between them, yielding light of energ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= En − En’ = h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lassical laws of physics do not apply to transitions between stationary states, but they do apply elsew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The angular momentum of the nth state is:     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n is called the Principal Quantum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ular momentum is quantiz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4: The Bohr Model of the Hydroge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general assump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onary states” (orbiting electrons do not radiate energy) exist in ato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= E1 − E2 = h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cal laws of physics do not apply to transitions between stationary st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an kinetic energy of the electron-nucleus system i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 = nhforb/2, where forb is the frequency of rotation. This is equivalent to ask that the angular momentum L=nh/(2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4: The Bohr Model of the Hydrogen At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general assumptions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onary states” (orbiting electrons do not radiate energy) exist in atoms.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= E1 − E2 = hf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cal laws of physics do not apply to transitions between stationary state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an kinetic energy of the electron-nucleus system i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 = nhforb/2, where forb is the frequency of rotation. This is equivalent to ask that the angular momentum L=nh/(2p)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quences of the Bohr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gular momentum is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for rn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velocity is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0 is called the Bohr radius. It’s the diameter of the Hydrogen atom (in its lowest-energy, or “ground,” state)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quences of the Bohr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gular momentum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for r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velocity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0 is called the Bohr radius. It’s the diameter of the Hydrogen atom (in its lowest-energy, or “ground,” stat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Rad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meter of the hydrogen atom for stationary states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he Bohr radius is given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allest diameter of the hydrogen atom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= 1 gives its lowest energy state (called the “ground” sta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Radiu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meter of the hydrogen atom for stationary states i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he Bohr radius is given by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allest diameter of the hydrogen atom i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= 1 gives its lowest energy state (called the “ground” state)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ission of light occurs when the atom is in an excited state and decays to a lower energy state (nu → nℓ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n is the frequency of a phot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∞ is the Rydberg const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ydroge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ies of the stationary states where E0 = 13.6 e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ission of light occurs when the atom is in an excited state and decays to a lower energy state (nu → nℓ)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n is the frequency of a phot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∞ is the Rydberg constant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ydrogen At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ies of the stationary states where E0 = 13.6 eV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eces of evidence that scientists had in 1900 to indicate that the atom was not a fundamental uni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seemed to be too many kinds of atoms, each belonging to a distinct chemical el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and electromagnetic phenomena were intimately rela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blem of valence. Certain elements combine with some elements but not with others, a characteristic that hinted at an internal atomic stru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scoveries of radioactivity, of x rays, and of the electr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At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eces of evidence that scientists had in 1900 to indicate that the atom was not a fundamental unit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seemed to be too many kinds of atoms, each belonging to a distinct chemical element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and electromagnetic phenomena were intimately related.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blem of valence. Certain elements combine with some elements but not with others, a characteristic that hinted at an internal atomic structure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scoveries of radioactivity, of x rays, and of the electr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s in the Hydroge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 will remain in the excited state for a short time before emitting a photon and returning to a lower stationary state. All hydrogen atoms exist in n = 1 (invisibl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s in the Hydrogen At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 will remain in the excited state for a short time before emitting a photon and returning to a lower stationary state. All hydrogen atoms exist in n = 1 (invisible)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 Structure Cons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’s velocity in the Bohr mode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ground stat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1 = 2.2 × 106 m/s ~ less than 1% of the speed of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of v1 to c is the fine structure const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 Structure Constant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’s velocity in the Bohr model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ground state,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1 = 2.2 × 106 m/s ~ less than 1% of the speed of light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of v1 to c is the fine structure constant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rrespondence 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a principle to relate the new modern results with classical 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cal electrodyna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atomic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proper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correspond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limits where classical and quantum theories should agree, the quantum theory must reduce the classical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rrespondence Principle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a principle to relate the new modern results with classical one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cal electrodynamic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atomic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properties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radiation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correspondence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le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limits where classical and quantum theories should agree, the quantum theory must reduce the classical result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rrespondence Principle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requency of the radiation emitted nclassical is equal to the orbital frequency norb of the electron around the nucleu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hould agree with the frequency of the transition from n + 1 to n (when n is very large)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large n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ituting for E0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rrespondence 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requency of the radiation emitted nclassical is equal to the orbital frequency norb of the electron around the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hould agree with the frequency of the transition from n + 1 to n (when n is very large)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large 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ituting for E0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s have letter names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 shell for n = 1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shell for n = 2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 is most stable in it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nd state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t occurs in a heavy atom, the radiation emitted is an X-ray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the energy E (X-ray) = Eu − Eℓ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 X-Ray Spectra and Atomic Number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ctron from high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s will fill the inner-shell vacancy at lower energy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s have letter nam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 shell for n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shell for n 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 is most stable in it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nd st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t occurs in a heavy atom, the radiation emitted is an X-r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the energy E (X-ray) = Eu − Eℓ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 X-Ray Spectra and Atomic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ctron from high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s will fill the inner-shell vacancy at lower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 and Moseley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-rays have names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shell to K shell:   Kα X-ray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shell to K shell:  Kβ X-ray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.J. Moseley studied X-ra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ission in 1913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 Z = number of protons in the nucleu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eley found a relationship between the frequencies of the characteristic X-ray and Z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eley found this rel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ds for the Kα X-ray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 and Mose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-rays have nam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shell to K shell:   Kα X-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shell to K shell:  Kβ X-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.J. Moseley studied X-ra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ission in 191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 Z = number of protons in the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eley found a relationship between the frequencies of the characteristic X-ray and 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eley found this rel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ds for the Kα X-ra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eley’s Empirical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 ray is produced from n = 2 to n = 1 tran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general, the K series of X-ray wavelength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eley’s research clarified the importance of the electron shells for all the elements, not just for hydro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eley’s Empirical Result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 ray is produced from n = 2 to n = 1 transiti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general, the K series of X-ray wavelengths are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eley’s research clarified the importance of the electron shells for all the elements, not just for hydroge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7: Atomic Excitation by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k and Hertz studied the phenomenon of ion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ng voltage is below 5 V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did not lose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ng voltage is above 5 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dden drop in the curr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7: Atomic Excitation by Electron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k and Hertz studied the phenomenon of ionizati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ng voltage is below 5 V.  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did not lose energy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ng voltage is above 5 V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dden drop in the current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Excitation by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nd state has E0 to be ze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excited state has E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difference E1 − 0 = E1 is the excitation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g has an excitation energy of 4.88 eV in the first excited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energy can be transferred to Hg below 4.88 eV because not enough energy is available to excite an electron to the next energy lev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ve 4.88 eV, the current drops because scattered electrons no longer reach the collector until the accelerating voltage reaches 9.8 eV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Excitation by Electron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nd state has E0 to be zero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excited state has E1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difference E1 − 0 = E1 is the excitation energy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g has an excitation energy of 4.88 eV in the first excited state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energy can be transferred to Hg below 4.88 eV because not enough energy is available to excite an electron to the next energy level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ve 4.88 eV, the current drops because scattered electrons no longer reach the collector until the accelerating voltage reaches 9.8 eV and so 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etails on the Bohr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 and hydrogen nucleus actually revolved about their mutual center of m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 mass is replaced by its reduced m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ydberg constant for infinite nuclear mass is replaced by 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etails on the Bohr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 and hydrogen nucleus actually revolved about their mutual center of mas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 mass is replaced by its reduced mas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ydberg constant for infinite nuclear mass is replaced by R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son’s “plum-pudding” model of the atom had the positive charges spread uniformly throughout a sphere the size of the atom, with electrons embedded in the uniform backg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omson’s view, when the atom was heated, the electrons could vibrate about their equilibrium positions, thus producing electromagnetic rad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son’s Atomic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son’s “plum-pudding” model of the atom had the positive charges spread uniformly throughout a sphere the size of the atom, with electrons embedded in the uniform background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omson’s view, when the atom was heated, the electrons could vibrate about their equilibrium positions, thus producing electromagnetic radiati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son’s Atomic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ations of the Bohr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hr model was a great step of the new quantum theory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it had its limit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 only to single-electron at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not account for the intensities or the fine structure of the spectral li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not explain the binding of atoms into molecu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ations of the Bohr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hr model was a great step of the new quantum theory,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it had its limitation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 only to single-electron atom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not account for the intensities or the fine structure of the spectral line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not explain the binding of atoms into molecule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atoms in gold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the distance between atoms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us of an Ato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atoms in gold 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the distance between atoms i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us of an Atom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eriments of Geiger and Mars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, Geiger, and Marsden conceived a new technique for investigating the structure of matter by scattering a particles from ato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iger showed that some a particles were scattered from thin gold-leaf targets at backward angles greater than 90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can’t back-scatter a parti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eriments of Geiger and Marsden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, Geiger, and Marsden conceived a new technique for investigating the structure of matter by scattering a particles from atoms.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iger showed that some a particles were scattered from thin gold-leaf targets at backward angles greater than 90°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can’t back-scatter a particle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ttering from 1 electr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ximum scattering angle corresponding to the maximum momentum 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momentum change of the α particle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θ by letting Δpmax be perpendicular to the direction of mo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ttering from 1 electron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ximum scattering angle corresponding to the maximum momentum change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momentum change of the α particle i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θ by letting Δpmax be perpendicular to the direction of moti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 α particle were scattered by many electrons and N electrons results in         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atoms across the thin gold layer of 6 × 10−7 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the distance between atoms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re 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giv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Scattering from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 α particle were scattered by many electrons and N electrons results in                   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atoms across the thin gold layer of 6 × 10−7 m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the distance between atoms i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re 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giv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Scattering from Electron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if the α particle scattered from all 79 electrons in each atom of g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perimental results were not consistent with Thomson’s atomic mod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proposed that an atom has a positively charged core (nucleus) surrounded by the negative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’s Atomic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sitive charge is concentrated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ucleus with a radius much smaller than 10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if the α particle scattered from all 79 electrons in each atom of gold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perimental results were not consistent with Thomson’s atomic model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proposed that an atom has a positively charged core (nucleus) surrounded by the negative electron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’s Atomic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sitive charge is concentrated in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ucleus with a radius much smaller than 10-10 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ttering experiments help us study matter too small to be observed direc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relationship between the impact parameter b and the scattering angle 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b is smal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gets sm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omb force gets la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θ can be large and the particle can be repelled backw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: Rutherford Scatt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ttering experiments help us study matter too small to be observed directly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relationship between the impact parameter b and the scattering angle θ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b is small,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gets small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omb force gets large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θ can be large and the particle can be repelled backward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: Rutherford Scattering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D93A-F6B9-40FA-82C8-2E21E848E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C5DB-3E7C-457E-A95F-932BC0851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C64D-4A19-48FD-ABD7-914E6AB1D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6A48-3F32-4B2B-AD35-62C616C52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0DC1-1737-4008-8FEC-A71952C1E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BA54-BE91-42B1-92AB-D7CCE4068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819B-B6A9-4F4C-BF54-A00464D59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02B6-533E-4599-A356-986674737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EC5A-A2D0-4A06-A582-082B55E74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5A66-D5C2-479B-B2D7-EC920FA7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DE4D-73FA-421E-BFE5-DF9CBEF6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5D89-7C80-4701-AE0E-1F1846F1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33CFD-7C94-4757-90B0-EE5921A98F1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image" Target="../media/image3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2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oleObject" Target="../embeddings/oleObject2.bin"/><Relationship Id="rId7" Type="http://schemas.openxmlformats.org/officeDocument/2006/relationships/image" Target="../media/image46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3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4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4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54.wmf"/><Relationship Id="rId12" Type="http://schemas.openxmlformats.org/officeDocument/2006/relationships/image" Target="../media/image55.pn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56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57.wmf"/><Relationship Id="rId17" Type="http://schemas.openxmlformats.org/officeDocument/2006/relationships/image" Target="../media/image51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6840" y="2057040"/>
            <a:ext cx="79246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tomic Models of Thomson and Rutherf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therford Scat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assic Atomic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ohr Model of the Hydrogen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cesses and Failures of the Bohr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istic X-Ray Spectra and Atomic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ic Excitation by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Object 4"/>
          <p:cNvGraphicFramePr/>
          <p:nvPr/>
        </p:nvGraphicFramePr>
        <p:xfrm>
          <a:off x="0" y="838080"/>
          <a:ext cx="8458200" cy="65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8458200" cy="6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Rectangle 5"/>
          <p:cNvSpPr/>
          <p:nvPr/>
        </p:nvSpPr>
        <p:spPr>
          <a:xfrm>
            <a:off x="457200" y="307800"/>
            <a:ext cx="855828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HAPTER 4</a:t>
            </a: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Structure of the Atom</a:t>
            </a:r>
            <a:endParaRPr b="0" lang="en-US" sz="34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2819520" y="4800600"/>
            <a:ext cx="594360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 the present first part of the paper the mechanism of the binding of electrons by a positive nucleus is discussed in relation to Planck’s theory. It will be shown that it is possible from the point of view taken to account in a simple way for the law of the line spectrum of hydrogen.</a:t>
            </a:r>
            <a:endParaRPr b="0" lang="en-US" sz="14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Niels Bohr, 1913</a:t>
            </a:r>
            <a:endParaRPr b="0" lang="en-US" sz="1400" spc="-1" strike="noStrike">
              <a:solidFill>
                <a:srgbClr val="0066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ny particle inside the circle of area </a:t>
            </a:r>
            <a:r>
              <a:rPr b="0" i="1" lang="el-GR" sz="19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will be similarly scattered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cross section 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i="1" lang="el-GR" sz="19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is related to the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robability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for a particle being scattered by 1 nucleu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number of scattering nuclei per unit area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fraction of incident particles scattered i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= ntA</a:t>
            </a:r>
            <a:r>
              <a:rPr b="0" i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/A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9" descr="0409"/>
          <p:cNvPicPr/>
          <p:nvPr/>
        </p:nvPicPr>
        <p:blipFill>
          <a:blip r:embed="rId1"/>
          <a:stretch/>
        </p:blipFill>
        <p:spPr>
          <a:xfrm>
            <a:off x="2286000" y="1219320"/>
            <a:ext cx="4419720" cy="24098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Rutherford Scattering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18" name="Picture 22" descr=""/>
          <p:cNvPicPr/>
          <p:nvPr/>
        </p:nvPicPr>
        <p:blipFill>
          <a:blip r:embed="rId2"/>
          <a:stretch/>
        </p:blipFill>
        <p:spPr>
          <a:xfrm>
            <a:off x="5029200" y="5435640"/>
            <a:ext cx="2117880" cy="711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3" descr=""/>
          <p:cNvPicPr/>
          <p:nvPr/>
        </p:nvPicPr>
        <p:blipFill>
          <a:blip r:embed="rId3"/>
          <a:stretch/>
        </p:blipFill>
        <p:spPr>
          <a:xfrm>
            <a:off x="5943600" y="4533840"/>
            <a:ext cx="1879560" cy="606600"/>
          </a:xfrm>
          <a:prstGeom prst="rect">
            <a:avLst/>
          </a:prstGeom>
          <a:ln w="0">
            <a:noFill/>
          </a:ln>
        </p:spPr>
      </p:pic>
      <p:grpSp>
        <p:nvGrpSpPr>
          <p:cNvPr id="120" name="Group 25"/>
          <p:cNvGrpSpPr/>
          <p:nvPr/>
        </p:nvGrpSpPr>
        <p:grpSpPr>
          <a:xfrm>
            <a:off x="1447920" y="5410080"/>
            <a:ext cx="1596960" cy="878040"/>
            <a:chOff x="1447920" y="5410080"/>
            <a:chExt cx="1596960" cy="878040"/>
          </a:xfrm>
        </p:grpSpPr>
        <p:sp>
          <p:nvSpPr>
            <p:cNvPr id="121" name="Rectangle 26"/>
            <p:cNvSpPr/>
            <p:nvPr/>
          </p:nvSpPr>
          <p:spPr>
            <a:xfrm>
              <a:off x="1447920" y="5410080"/>
              <a:ext cx="1596960" cy="87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pic>
          <p:nvPicPr>
            <p:cNvPr id="122" name="Picture 27" descr="0410"/>
            <p:cNvPicPr/>
            <p:nvPr/>
          </p:nvPicPr>
          <p:blipFill>
            <a:blip r:embed="rId4"/>
            <a:srcRect l="24901" t="0" r="0" b="3862"/>
            <a:stretch/>
          </p:blipFill>
          <p:spPr>
            <a:xfrm>
              <a:off x="1516320" y="5449680"/>
              <a:ext cx="1469880" cy="79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Line 28"/>
          <p:cNvSpPr/>
          <p:nvPr/>
        </p:nvSpPr>
        <p:spPr>
          <a:xfrm>
            <a:off x="1600200" y="5638680"/>
            <a:ext cx="1066680" cy="0"/>
          </a:xfrm>
          <a:prstGeom prst="line">
            <a:avLst/>
          </a:prstGeom>
          <a:ln w="93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24" name="Line 29"/>
          <p:cNvSpPr/>
          <p:nvPr/>
        </p:nvSpPr>
        <p:spPr>
          <a:xfrm>
            <a:off x="1752480" y="6095880"/>
            <a:ext cx="1067040" cy="0"/>
          </a:xfrm>
          <a:prstGeom prst="line">
            <a:avLst/>
          </a:prstGeom>
          <a:ln w="93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25" name="Line 30"/>
          <p:cNvSpPr/>
          <p:nvPr/>
        </p:nvSpPr>
        <p:spPr>
          <a:xfrm>
            <a:off x="1752480" y="5943600"/>
            <a:ext cx="1067040" cy="0"/>
          </a:xfrm>
          <a:prstGeom prst="line">
            <a:avLst/>
          </a:prstGeom>
          <a:ln w="93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26" name="Line 31"/>
          <p:cNvSpPr/>
          <p:nvPr/>
        </p:nvSpPr>
        <p:spPr>
          <a:xfrm>
            <a:off x="1752480" y="5486400"/>
            <a:ext cx="1067040" cy="0"/>
          </a:xfrm>
          <a:prstGeom prst="line">
            <a:avLst/>
          </a:prstGeom>
          <a:ln w="93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27" name="Line 32"/>
          <p:cNvSpPr/>
          <p:nvPr/>
        </p:nvSpPr>
        <p:spPr>
          <a:xfrm>
            <a:off x="1752480" y="5715000"/>
            <a:ext cx="1067040" cy="0"/>
          </a:xfrm>
          <a:prstGeom prst="line">
            <a:avLst/>
          </a:prstGeom>
          <a:ln w="93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57200" y="1066680"/>
            <a:ext cx="868824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 actual experiment a detector is positioned from </a:t>
            </a:r>
            <a:r>
              <a:rPr b="0" i="1" lang="el-GR" sz="21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l-GR" sz="21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i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l-GR" sz="21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hat corresponds to incident particles between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number of particles scattered per unit area i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0" descr="0412"/>
          <p:cNvPicPr/>
          <p:nvPr/>
        </p:nvPicPr>
        <p:blipFill>
          <a:blip r:embed="rId1"/>
          <a:stretch/>
        </p:blipFill>
        <p:spPr>
          <a:xfrm>
            <a:off x="2679840" y="1905120"/>
            <a:ext cx="3784320" cy="28954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Rutherford Scattering Equation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32" name="Picture 11" descr=""/>
          <p:cNvPicPr/>
          <p:nvPr/>
        </p:nvPicPr>
        <p:blipFill>
          <a:blip r:embed="rId2"/>
          <a:stretch/>
        </p:blipFill>
        <p:spPr>
          <a:xfrm>
            <a:off x="2452680" y="5216400"/>
            <a:ext cx="4238640" cy="87948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4.3: The Classical Atomic Model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6840" y="12952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et’s consider atoms as a planetary mode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force of attraction on the electron by the nucleus and Newton’s 2nd law giv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s the tangential velocity of the electr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total energy i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5" descr=""/>
          <p:cNvPicPr/>
          <p:nvPr/>
        </p:nvPicPr>
        <p:blipFill>
          <a:blip r:embed="rId1"/>
          <a:stretch/>
        </p:blipFill>
        <p:spPr>
          <a:xfrm>
            <a:off x="3049560" y="2390760"/>
            <a:ext cx="3044880" cy="961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6" descr=""/>
          <p:cNvPicPr/>
          <p:nvPr/>
        </p:nvPicPr>
        <p:blipFill>
          <a:blip r:embed="rId2"/>
          <a:stretch/>
        </p:blipFill>
        <p:spPr>
          <a:xfrm>
            <a:off x="2119320" y="4495680"/>
            <a:ext cx="4905360" cy="96228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Object 2"/>
          <p:cNvGraphicFramePr/>
          <p:nvPr/>
        </p:nvGraphicFramePr>
        <p:xfrm>
          <a:off x="1720800" y="2382840"/>
          <a:ext cx="2747880" cy="99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20800" y="2382840"/>
                    <a:ext cx="2747880" cy="9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2400" y="328320"/>
            <a:ext cx="7692840" cy="5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cc"/>
                </a:solidFill>
                <a:latin typeface="Arial"/>
              </a:rPr>
              <a:t>The Classical Atomic Model</a:t>
            </a: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160" y="1066680"/>
            <a:ext cx="5265720" cy="11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an atom as a planetary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ewton’s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aw force of attraction on the electron by the nucleus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3">
            <a:lum contrast="36000"/>
          </a:blip>
          <a:stretch/>
        </p:blipFill>
        <p:spPr>
          <a:xfrm>
            <a:off x="860400" y="5553000"/>
            <a:ext cx="4905360" cy="9622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6"/>
          <p:cNvSpPr/>
          <p:nvPr/>
        </p:nvSpPr>
        <p:spPr>
          <a:xfrm>
            <a:off x="507960" y="3457440"/>
            <a:ext cx="517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tangential velocity of the electron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grpSp>
        <p:nvGrpSpPr>
          <p:cNvPr id="145" name="Group 7"/>
          <p:cNvGrpSpPr/>
          <p:nvPr/>
        </p:nvGrpSpPr>
        <p:grpSpPr>
          <a:xfrm>
            <a:off x="6114960" y="1582560"/>
            <a:ext cx="1938600" cy="2036880"/>
            <a:chOff x="6114960" y="1582560"/>
            <a:chExt cx="1938600" cy="2036880"/>
          </a:xfrm>
        </p:grpSpPr>
        <p:sp>
          <p:nvSpPr>
            <p:cNvPr id="146" name="Oval 8"/>
            <p:cNvSpPr/>
            <p:nvPr/>
          </p:nvSpPr>
          <p:spPr>
            <a:xfrm>
              <a:off x="6932880" y="2447640"/>
              <a:ext cx="304560" cy="304920"/>
            </a:xfrm>
            <a:prstGeom prst="ellipse">
              <a:avLst/>
            </a:prstGeom>
            <a:solidFill>
              <a:srgbClr val="cc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47" name="Oval 9"/>
            <p:cNvSpPr/>
            <p:nvPr/>
          </p:nvSpPr>
          <p:spPr>
            <a:xfrm>
              <a:off x="6114960" y="1582560"/>
              <a:ext cx="1938600" cy="2036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48" name="Line 10"/>
            <p:cNvSpPr/>
            <p:nvPr/>
          </p:nvSpPr>
          <p:spPr>
            <a:xfrm>
              <a:off x="7732800" y="1847880"/>
              <a:ext cx="98280" cy="109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49" name="Oval 11"/>
            <p:cNvSpPr/>
            <p:nvPr/>
          </p:nvSpPr>
          <p:spPr>
            <a:xfrm>
              <a:off x="7446960" y="1631880"/>
              <a:ext cx="146160" cy="145800"/>
            </a:xfrm>
            <a:prstGeom prst="ellipse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</p:grpSp>
      <p:sp>
        <p:nvSpPr>
          <p:cNvPr id="150" name="Text Box 12"/>
          <p:cNvSpPr/>
          <p:nvPr/>
        </p:nvSpPr>
        <p:spPr>
          <a:xfrm>
            <a:off x="507960" y="5049720"/>
            <a:ext cx="299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otal energy is then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graphicFrame>
        <p:nvGraphicFramePr>
          <p:cNvPr id="151" name="Object 13"/>
          <p:cNvGraphicFramePr/>
          <p:nvPr/>
        </p:nvGraphicFramePr>
        <p:xfrm>
          <a:off x="1270080" y="3944880"/>
          <a:ext cx="1914480" cy="998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2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70080" y="3944880"/>
                    <a:ext cx="1914480" cy="9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14"/>
          <p:cNvGraphicFramePr/>
          <p:nvPr/>
        </p:nvGraphicFramePr>
        <p:xfrm>
          <a:off x="3382920" y="3943440"/>
          <a:ext cx="3191040" cy="99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4" name="Object 1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382920" y="3943440"/>
                    <a:ext cx="3191040" cy="9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Text Box 15"/>
          <p:cNvSpPr/>
          <p:nvPr/>
        </p:nvSpPr>
        <p:spPr>
          <a:xfrm>
            <a:off x="6186600" y="5567400"/>
            <a:ext cx="24238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negative, so the system is bound, which is good.</a:t>
            </a: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The Planetary Model is Doomed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9140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rom classical E&amp;M theory, an accelerated electric charge radiates energy (electromagnetic radiation) which means total energy must decrease.          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adius r must decrease!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Electron crashes into the nucleus!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hysics had reached a turning point in 1900 with Planck’s hypothesis of the quantum behavior of radiati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4"/>
          <p:cNvSpPr/>
          <p:nvPr/>
        </p:nvSpPr>
        <p:spPr>
          <a:xfrm>
            <a:off x="3683160" y="17524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4191120" y="4952880"/>
            <a:ext cx="533160" cy="457200"/>
          </a:xfrm>
          <a:prstGeom prst="downArrow">
            <a:avLst>
              <a:gd name="adj1" fmla="val 50880"/>
              <a:gd name="adj2" fmla="val 4444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161" name="Picture 14" descr="0414"/>
          <p:cNvPicPr/>
          <p:nvPr/>
        </p:nvPicPr>
        <p:blipFill>
          <a:blip r:embed="rId1"/>
          <a:stretch/>
        </p:blipFill>
        <p:spPr>
          <a:xfrm>
            <a:off x="3297240" y="2057400"/>
            <a:ext cx="2549520" cy="236520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608040" y="5492880"/>
            <a:ext cx="6021360" cy="8395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3200" y="351000"/>
            <a:ext cx="8209080" cy="5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The Bohr Model of the Hydrogen Atom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6640" y="1353960"/>
            <a:ext cx="4889520" cy="398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hr’s general assump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000" spc="-1" strike="noStrike">
                <a:solidFill>
                  <a:srgbClr val="ccff33"/>
                </a:solidFill>
                <a:latin typeface="Arial"/>
              </a:rPr>
              <a:t>Stationary stat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n which orbiting electrons do </a:t>
            </a:r>
            <a:r>
              <a:rPr b="1" lang="en-US" sz="2000" spc="-1" strike="noStrike">
                <a:solidFill>
                  <a:srgbClr val="ccff33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adiate energy, exist in atoms and have well-defined energies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Transitions can occur between them, yielding light of energ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−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h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Classical laws of physics do not apply to transitions between stationary states, but they do apply elsew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5"/>
          <p:cNvGrpSpPr/>
          <p:nvPr/>
        </p:nvGrpSpPr>
        <p:grpSpPr>
          <a:xfrm>
            <a:off x="5981760" y="1871640"/>
            <a:ext cx="2193840" cy="2193840"/>
            <a:chOff x="5981760" y="1871640"/>
            <a:chExt cx="2193840" cy="2193840"/>
          </a:xfrm>
        </p:grpSpPr>
        <p:sp>
          <p:nvSpPr>
            <p:cNvPr id="167" name="Oval 6"/>
            <p:cNvSpPr/>
            <p:nvPr/>
          </p:nvSpPr>
          <p:spPr>
            <a:xfrm>
              <a:off x="6981840" y="2871720"/>
              <a:ext cx="193680" cy="193680"/>
            </a:xfrm>
            <a:prstGeom prst="ellipse">
              <a:avLst/>
            </a:prstGeom>
            <a:solidFill>
              <a:srgbClr val="cc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68" name="Oval 7"/>
            <p:cNvSpPr/>
            <p:nvPr/>
          </p:nvSpPr>
          <p:spPr>
            <a:xfrm>
              <a:off x="6580080" y="2470320"/>
              <a:ext cx="998640" cy="998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69" name="Oval 8"/>
            <p:cNvSpPr/>
            <p:nvPr/>
          </p:nvSpPr>
          <p:spPr>
            <a:xfrm>
              <a:off x="5981760" y="1871640"/>
              <a:ext cx="2193840" cy="2193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70" name="Oval 9"/>
            <p:cNvSpPr/>
            <p:nvPr/>
          </p:nvSpPr>
          <p:spPr>
            <a:xfrm>
              <a:off x="7407360" y="3909960"/>
              <a:ext cx="135000" cy="135000"/>
            </a:xfrm>
            <a:prstGeom prst="ellipse">
              <a:avLst/>
            </a:prstGeom>
            <a:solidFill>
              <a:srgbClr val="cc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71" name="Oval 10"/>
            <p:cNvSpPr/>
            <p:nvPr/>
          </p:nvSpPr>
          <p:spPr>
            <a:xfrm>
              <a:off x="6923160" y="2813040"/>
              <a:ext cx="311040" cy="311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72" name="Oval 11"/>
            <p:cNvSpPr/>
            <p:nvPr/>
          </p:nvSpPr>
          <p:spPr>
            <a:xfrm>
              <a:off x="7140600" y="2852640"/>
              <a:ext cx="135000" cy="135000"/>
            </a:xfrm>
            <a:prstGeom prst="ellipse">
              <a:avLst/>
            </a:prstGeom>
            <a:solidFill>
              <a:srgbClr val="cc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73" name="Oval 12"/>
            <p:cNvSpPr/>
            <p:nvPr/>
          </p:nvSpPr>
          <p:spPr>
            <a:xfrm>
              <a:off x="6519960" y="2932200"/>
              <a:ext cx="135000" cy="135000"/>
            </a:xfrm>
            <a:prstGeom prst="ellipse">
              <a:avLst/>
            </a:prstGeom>
            <a:solidFill>
              <a:srgbClr val="cc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</p:grpSp>
      <p:sp>
        <p:nvSpPr>
          <p:cNvPr id="174" name="Text Box 13"/>
          <p:cNvSpPr/>
          <p:nvPr/>
        </p:nvSpPr>
        <p:spPr>
          <a:xfrm>
            <a:off x="533520" y="5554800"/>
            <a:ext cx="602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The angular momentum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ate is:         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called the Principal Quantum Number.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14"/>
              <p:cNvSpPr txBox="1"/>
              <p:nvPr/>
            </p:nvSpPr>
            <p:spPr>
              <a:xfrm>
                <a:off x="6035760" y="5575320"/>
                <a:ext cx="43020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 </m:t>
                    </m:r>
                    <m:r>
                      <m:t xml:space="preserve">ℏ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6" name="Group 15"/>
          <p:cNvGrpSpPr/>
          <p:nvPr/>
        </p:nvGrpSpPr>
        <p:grpSpPr>
          <a:xfrm>
            <a:off x="5595840" y="1378080"/>
            <a:ext cx="2646360" cy="3409920"/>
            <a:chOff x="5595840" y="1378080"/>
            <a:chExt cx="2646360" cy="3409920"/>
          </a:xfrm>
        </p:grpSpPr>
        <p:grpSp>
          <p:nvGrpSpPr>
            <p:cNvPr id="177" name="Group 16"/>
            <p:cNvGrpSpPr/>
            <p:nvPr/>
          </p:nvGrpSpPr>
          <p:grpSpPr>
            <a:xfrm>
              <a:off x="7229520" y="1378080"/>
              <a:ext cx="1012680" cy="1450800"/>
              <a:chOff x="7229520" y="1378080"/>
              <a:chExt cx="1012680" cy="1450800"/>
            </a:xfrm>
          </p:grpSpPr>
          <p:sp>
            <p:nvSpPr>
              <p:cNvPr id="178" name="Text Box 17"/>
              <p:cNvSpPr/>
              <p:nvPr/>
            </p:nvSpPr>
            <p:spPr>
              <a:xfrm>
                <a:off x="7535880" y="1378080"/>
                <a:ext cx="706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= 1</a:t>
                </a:r>
                <a:endParaRPr b="0" lang="en-US" sz="1800" spc="-1" strike="noStrike">
                  <a:solidFill>
                    <a:srgbClr val="006633"/>
                  </a:solidFill>
                  <a:latin typeface="Arial"/>
                </a:endParaRPr>
              </a:p>
            </p:txBody>
          </p:sp>
          <p:sp>
            <p:nvSpPr>
              <p:cNvPr id="179" name="Line 18"/>
              <p:cNvSpPr/>
              <p:nvPr/>
            </p:nvSpPr>
            <p:spPr>
              <a:xfrm flipH="1">
                <a:off x="7229520" y="1717560"/>
                <a:ext cx="549360" cy="1111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33"/>
                  </a:solidFill>
                  <a:latin typeface="Arial"/>
                </a:endParaRPr>
              </a:p>
            </p:txBody>
          </p:sp>
        </p:grpSp>
        <p:sp>
          <p:nvSpPr>
            <p:cNvPr id="180" name="Text Box 19"/>
            <p:cNvSpPr/>
            <p:nvPr/>
          </p:nvSpPr>
          <p:spPr>
            <a:xfrm>
              <a:off x="7416720" y="4419720"/>
              <a:ext cx="70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= 3</a:t>
              </a:r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81" name="Line 20"/>
            <p:cNvSpPr/>
            <p:nvPr/>
          </p:nvSpPr>
          <p:spPr>
            <a:xfrm flipH="1" flipV="1">
              <a:off x="7516800" y="4061880"/>
              <a:ext cx="208080" cy="465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82" name="Text Box 21"/>
            <p:cNvSpPr/>
            <p:nvPr/>
          </p:nvSpPr>
          <p:spPr>
            <a:xfrm>
              <a:off x="5595840" y="1487520"/>
              <a:ext cx="70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= 2</a:t>
              </a:r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83" name="Line 22"/>
            <p:cNvSpPr/>
            <p:nvPr/>
          </p:nvSpPr>
          <p:spPr>
            <a:xfrm>
              <a:off x="5961240" y="1778040"/>
              <a:ext cx="549000" cy="1111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</p:grpSp>
      <p:sp>
        <p:nvSpPr>
          <p:cNvPr id="184" name="Text Box 23"/>
          <p:cNvSpPr/>
          <p:nvPr/>
        </p:nvSpPr>
        <p:spPr>
          <a:xfrm>
            <a:off x="6767640" y="5451480"/>
            <a:ext cx="191448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ular momentum is quantized!</a:t>
            </a: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4.4: The Bohr Model of the Hydrogen Atom</a:t>
            </a:r>
            <a:endParaRPr b="0" lang="en-US" sz="33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6840" y="1295280"/>
            <a:ext cx="85345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ohr’s general assumption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ationary states” (orbiting electrons do not radiate energy) exist in atom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−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hf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assical laws of physics do not apply to transitions between stationary stat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mean kinetic energy of the electron-nucleus system is </a:t>
            </a:r>
            <a:br>
              <a:rPr sz="2100"/>
            </a:b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nhf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orb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/2, where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orb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s the frequency of rotation. This is equivalent to ask that the angular momentum L=nh/(2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6464160" y="1122480"/>
            <a:ext cx="1914840" cy="1914480"/>
            <a:chOff x="6464160" y="1122480"/>
            <a:chExt cx="1914840" cy="1914480"/>
          </a:xfrm>
        </p:grpSpPr>
        <p:sp>
          <p:nvSpPr>
            <p:cNvPr id="190" name="Oval 3"/>
            <p:cNvSpPr/>
            <p:nvPr/>
          </p:nvSpPr>
          <p:spPr>
            <a:xfrm>
              <a:off x="7336800" y="1995120"/>
              <a:ext cx="168840" cy="168840"/>
            </a:xfrm>
            <a:prstGeom prst="ellipse">
              <a:avLst/>
            </a:prstGeom>
            <a:solidFill>
              <a:srgbClr val="cc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91" name="Oval 4"/>
            <p:cNvSpPr/>
            <p:nvPr/>
          </p:nvSpPr>
          <p:spPr>
            <a:xfrm>
              <a:off x="6986160" y="1644840"/>
              <a:ext cx="871560" cy="870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92" name="Oval 5"/>
            <p:cNvSpPr/>
            <p:nvPr/>
          </p:nvSpPr>
          <p:spPr>
            <a:xfrm>
              <a:off x="6464160" y="1122480"/>
              <a:ext cx="1914840" cy="19144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93" name="Oval 6"/>
            <p:cNvSpPr/>
            <p:nvPr/>
          </p:nvSpPr>
          <p:spPr>
            <a:xfrm>
              <a:off x="7708320" y="2901240"/>
              <a:ext cx="117720" cy="117720"/>
            </a:xfrm>
            <a:prstGeom prst="ellipse">
              <a:avLst/>
            </a:prstGeom>
            <a:solidFill>
              <a:srgbClr val="cc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94" name="Oval 7"/>
            <p:cNvSpPr/>
            <p:nvPr/>
          </p:nvSpPr>
          <p:spPr>
            <a:xfrm>
              <a:off x="7285680" y="1944000"/>
              <a:ext cx="271440" cy="2710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95" name="Oval 8"/>
            <p:cNvSpPr/>
            <p:nvPr/>
          </p:nvSpPr>
          <p:spPr>
            <a:xfrm>
              <a:off x="7475400" y="1978560"/>
              <a:ext cx="117720" cy="117720"/>
            </a:xfrm>
            <a:prstGeom prst="ellipse">
              <a:avLst/>
            </a:prstGeom>
            <a:solidFill>
              <a:srgbClr val="cc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96" name="Oval 9"/>
            <p:cNvSpPr/>
            <p:nvPr/>
          </p:nvSpPr>
          <p:spPr>
            <a:xfrm>
              <a:off x="6933600" y="2047680"/>
              <a:ext cx="117720" cy="117720"/>
            </a:xfrm>
            <a:prstGeom prst="ellipse">
              <a:avLst/>
            </a:prstGeom>
            <a:solidFill>
              <a:srgbClr val="cc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3200" y="351000"/>
            <a:ext cx="8209080" cy="5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Consequences of the Bohr Model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38280" y="1279440"/>
            <a:ext cx="3340080" cy="4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ngular momentum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12"/>
              <p:cNvSpPr txBox="1"/>
              <p:nvPr/>
            </p:nvSpPr>
            <p:spPr>
              <a:xfrm>
                <a:off x="1932120" y="1913040"/>
                <a:ext cx="19684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mvr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ℏ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00" name="Object 13"/>
          <p:cNvGraphicFramePr/>
          <p:nvPr/>
        </p:nvGraphicFramePr>
        <p:xfrm>
          <a:off x="1454040" y="3236760"/>
          <a:ext cx="1914480" cy="99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4040" y="3236760"/>
                    <a:ext cx="1914480" cy="9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2" name="Object 14"/>
              <p:cNvSpPr txBox="1"/>
              <p:nvPr/>
            </p:nvSpPr>
            <p:spPr>
              <a:xfrm>
                <a:off x="2894040" y="2698920"/>
                <a:ext cx="154944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n</m:t>
                    </m:r>
                    <m:f>
                      <m:fPr>
                        <m:type m:val="lin"/>
                      </m:fPr>
                      <m:num>
                        <m:r>
                          <m:t xml:space="preserve">ℏ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03" name="Object 15"/>
          <p:cNvGraphicFramePr/>
          <p:nvPr/>
        </p:nvGraphicFramePr>
        <p:xfrm>
          <a:off x="4299120" y="3197160"/>
          <a:ext cx="2220840" cy="99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4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99120" y="3197160"/>
                    <a:ext cx="2220840" cy="9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Text Box 16"/>
          <p:cNvSpPr/>
          <p:nvPr/>
        </p:nvSpPr>
        <p:spPr>
          <a:xfrm>
            <a:off x="638280" y="3460680"/>
            <a:ext cx="78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06" name="Text Box 17"/>
          <p:cNvSpPr/>
          <p:nvPr/>
        </p:nvSpPr>
        <p:spPr>
          <a:xfrm>
            <a:off x="3578400" y="3460680"/>
            <a:ext cx="78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07" name="Text Box 18"/>
          <p:cNvSpPr/>
          <p:nvPr/>
        </p:nvSpPr>
        <p:spPr>
          <a:xfrm>
            <a:off x="638280" y="4795920"/>
            <a:ext cx="1852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ing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graphicFrame>
        <p:nvGraphicFramePr>
          <p:cNvPr id="208" name="Object 19"/>
          <p:cNvGraphicFramePr/>
          <p:nvPr/>
        </p:nvGraphicFramePr>
        <p:xfrm>
          <a:off x="2766960" y="4687920"/>
          <a:ext cx="1220760" cy="527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9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66960" y="4687920"/>
                    <a:ext cx="1220760" cy="527040"/>
                  </a:xfrm>
                  <a:prstGeom prst="rect">
                    <a:avLst/>
                  </a:prstGeom>
                  <a:ln w="381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0" name="Text Box 20"/>
          <p:cNvSpPr/>
          <p:nvPr/>
        </p:nvSpPr>
        <p:spPr>
          <a:xfrm>
            <a:off x="638280" y="2712960"/>
            <a:ext cx="23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the velocity is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graphicFrame>
        <p:nvGraphicFramePr>
          <p:cNvPr id="211" name="Object 21"/>
          <p:cNvGraphicFramePr/>
          <p:nvPr/>
        </p:nvGraphicFramePr>
        <p:xfrm>
          <a:off x="6203880" y="4494240"/>
          <a:ext cx="1720800" cy="91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2" name="Object 2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203880" y="4494240"/>
                    <a:ext cx="1720800" cy="914400"/>
                  </a:xfrm>
                  <a:prstGeom prst="rect">
                    <a:avLst/>
                  </a:prstGeom>
                  <a:ln w="381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3" name="Text Box 22"/>
          <p:cNvSpPr/>
          <p:nvPr/>
        </p:nvSpPr>
        <p:spPr>
          <a:xfrm>
            <a:off x="4856040" y="4795920"/>
            <a:ext cx="102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14" name="Text Box 23"/>
          <p:cNvSpPr/>
          <p:nvPr/>
        </p:nvSpPr>
        <p:spPr>
          <a:xfrm>
            <a:off x="682560" y="5845320"/>
            <a:ext cx="7950240" cy="74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is called the Bohr radius. It’s the diameter of the Hydrogen atom (in its lowest-energy, or “ground,” state).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grpSp>
        <p:nvGrpSpPr>
          <p:cNvPr id="215" name="Group 24"/>
          <p:cNvGrpSpPr/>
          <p:nvPr/>
        </p:nvGrpSpPr>
        <p:grpSpPr>
          <a:xfrm>
            <a:off x="7297560" y="2109960"/>
            <a:ext cx="460440" cy="1593000"/>
            <a:chOff x="7297560" y="2109960"/>
            <a:chExt cx="460440" cy="1593000"/>
          </a:xfrm>
        </p:grpSpPr>
        <p:sp>
          <p:nvSpPr>
            <p:cNvPr id="216" name="Text Box 25"/>
            <p:cNvSpPr/>
            <p:nvPr/>
          </p:nvSpPr>
          <p:spPr>
            <a:xfrm>
              <a:off x="7297560" y="3262320"/>
              <a:ext cx="460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r>
                <a:rPr b="1" lang="en-US" sz="2000" spc="-1" strike="noStrike" baseline="-25000">
                  <a:solidFill>
                    <a:srgbClr val="ffff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217" name="Line 26"/>
            <p:cNvSpPr/>
            <p:nvPr/>
          </p:nvSpPr>
          <p:spPr>
            <a:xfrm>
              <a:off x="7397640" y="3282840"/>
              <a:ext cx="1954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218" name="Line 27"/>
            <p:cNvSpPr/>
            <p:nvPr/>
          </p:nvSpPr>
          <p:spPr>
            <a:xfrm>
              <a:off x="7419960" y="2109960"/>
              <a:ext cx="0" cy="1109520"/>
            </a:xfrm>
            <a:prstGeom prst="line">
              <a:avLst/>
            </a:prstGeom>
            <a:ln w="28440">
              <a:solidFill>
                <a:srgbClr val="ff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219" name="Line 28"/>
            <p:cNvSpPr/>
            <p:nvPr/>
          </p:nvSpPr>
          <p:spPr>
            <a:xfrm>
              <a:off x="7572240" y="2109960"/>
              <a:ext cx="0" cy="1109520"/>
            </a:xfrm>
            <a:prstGeom prst="line">
              <a:avLst/>
            </a:prstGeom>
            <a:ln w="28440">
              <a:solidFill>
                <a:srgbClr val="ff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</p:grp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Bohr Radius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61880" y="1143000"/>
            <a:ext cx="852984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diameter of the hydrogen atom for stationary states i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here the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Bohr radiu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s given b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smallest diameter of the hydrogen atom i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1 gives its lowest energy state (called the “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round” stat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5" descr=""/>
          <p:cNvPicPr/>
          <p:nvPr/>
        </p:nvPicPr>
        <p:blipFill>
          <a:blip r:embed="rId1"/>
          <a:stretch/>
        </p:blipFill>
        <p:spPr>
          <a:xfrm>
            <a:off x="3254400" y="1523880"/>
            <a:ext cx="2635200" cy="8035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6" descr=""/>
          <p:cNvPicPr/>
          <p:nvPr/>
        </p:nvPicPr>
        <p:blipFill>
          <a:blip r:embed="rId2"/>
          <a:stretch/>
        </p:blipFill>
        <p:spPr>
          <a:xfrm>
            <a:off x="511200" y="2978280"/>
            <a:ext cx="1012680" cy="5205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7" descr=""/>
          <p:cNvPicPr/>
          <p:nvPr/>
        </p:nvPicPr>
        <p:blipFill>
          <a:blip r:embed="rId3"/>
          <a:stretch/>
        </p:blipFill>
        <p:spPr>
          <a:xfrm>
            <a:off x="7493040" y="3132000"/>
            <a:ext cx="1320840" cy="225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8" descr=""/>
          <p:cNvPicPr/>
          <p:nvPr/>
        </p:nvPicPr>
        <p:blipFill>
          <a:blip r:embed="rId4"/>
          <a:stretch/>
        </p:blipFill>
        <p:spPr>
          <a:xfrm>
            <a:off x="3511440" y="4421160"/>
            <a:ext cx="2121120" cy="3906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9" descr=""/>
          <p:cNvPicPr/>
          <p:nvPr/>
        </p:nvPicPr>
        <p:blipFill>
          <a:blip r:embed="rId5"/>
          <a:stretch/>
        </p:blipFill>
        <p:spPr>
          <a:xfrm>
            <a:off x="1547640" y="2971800"/>
            <a:ext cx="5905800" cy="58104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7"/>
          <p:cNvSpPr/>
          <p:nvPr/>
        </p:nvSpPr>
        <p:spPr>
          <a:xfrm>
            <a:off x="3276720" y="2438280"/>
            <a:ext cx="5486400" cy="40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12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mission of light occurs when the atom is in an excited state and decays to a lower energy state (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ℓ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s the frequency of a photon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∞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ydberg constant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The Hydrogen Atom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nergies of the stationary states 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3.6 e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Object 29"/>
          <p:cNvGraphicFramePr/>
          <p:nvPr/>
        </p:nvGraphicFramePr>
        <p:xfrm>
          <a:off x="4952880" y="3492360"/>
          <a:ext cx="1879560" cy="5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3492360"/>
                    <a:ext cx="1879560" cy="546120"/>
                  </a:xfrm>
                  <a:prstGeom prst="rect">
                    <a:avLst/>
                  </a:prstGeom>
                  <a:ln w="38160">
                    <a:solidFill>
                      <a:srgbClr val="ff99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34" name="Picture 24" descr=""/>
          <p:cNvPicPr/>
          <p:nvPr/>
        </p:nvPicPr>
        <p:blipFill>
          <a:blip r:embed="rId3"/>
          <a:stretch/>
        </p:blipFill>
        <p:spPr>
          <a:xfrm>
            <a:off x="2841480" y="1165320"/>
            <a:ext cx="3461040" cy="711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8" descr="0415"/>
          <p:cNvPicPr/>
          <p:nvPr/>
        </p:nvPicPr>
        <p:blipFill>
          <a:blip r:embed="rId4"/>
          <a:stretch/>
        </p:blipFill>
        <p:spPr>
          <a:xfrm>
            <a:off x="304920" y="2389320"/>
            <a:ext cx="2660400" cy="4468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236" name="Group 31"/>
          <p:cNvGrpSpPr/>
          <p:nvPr/>
        </p:nvGrpSpPr>
        <p:grpSpPr>
          <a:xfrm>
            <a:off x="3649680" y="4459320"/>
            <a:ext cx="4656240" cy="950760"/>
            <a:chOff x="3649680" y="4459320"/>
            <a:chExt cx="4656240" cy="950760"/>
          </a:xfrm>
        </p:grpSpPr>
        <p:sp>
          <p:nvSpPr>
            <p:cNvPr id="237" name="Rectangle 32"/>
            <p:cNvSpPr/>
            <p:nvPr/>
          </p:nvSpPr>
          <p:spPr>
            <a:xfrm>
              <a:off x="3649680" y="4459320"/>
              <a:ext cx="4656240" cy="9507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pic>
          <p:nvPicPr>
            <p:cNvPr id="238" name="Picture 33" descr=""/>
            <p:cNvPicPr/>
            <p:nvPr/>
          </p:nvPicPr>
          <p:blipFill>
            <a:blip r:embed="rId5"/>
            <a:srcRect l="24122" t="0" r="0" b="0"/>
            <a:stretch/>
          </p:blipFill>
          <p:spPr>
            <a:xfrm>
              <a:off x="5359320" y="4530600"/>
              <a:ext cx="2876760" cy="8028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39" name="Object 34"/>
            <p:cNvGraphicFramePr/>
            <p:nvPr/>
          </p:nvGraphicFramePr>
          <p:xfrm>
            <a:off x="3759120" y="4555800"/>
            <a:ext cx="1614600" cy="7250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40" name="Object 34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759120" y="4555800"/>
                      <a:ext cx="1614600" cy="72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037" descr="A nitrogen atom with electrons in two energy levels."/>
          <p:cNvPicPr/>
          <p:nvPr/>
        </p:nvPicPr>
        <p:blipFill>
          <a:blip r:embed="rId1"/>
          <a:srcRect l="14953" t="0" r="12248" b="0"/>
          <a:stretch/>
        </p:blipFill>
        <p:spPr>
          <a:xfrm>
            <a:off x="1143000" y="127080"/>
            <a:ext cx="7162920" cy="65786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09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Structure of the Atom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ieces of evidence that scientists had in 1900 to indicate that the atom was not a fundamental unit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re seemed to be too many kinds of atoms, each belonging to a distinct chemical elemen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toms and electromagnetic phenomena were intimately related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problem of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valenc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 Certain elements combine with some elements but not with others, a characteristic that hinted at an internal atomic structur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discoveries of radioactivity, of x rays, and of the electr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Transitions in the Hydrogen Atom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5334120" y="990720"/>
            <a:ext cx="350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tom will remain in the excited state for a short time before emitting a photon and returning to a lower stationary state. All hydrogen atoms exist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 (invisible).</a:t>
            </a: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245" name="Picture 6" descr="0416"/>
          <p:cNvPicPr/>
          <p:nvPr/>
        </p:nvPicPr>
        <p:blipFill>
          <a:blip r:embed="rId1"/>
          <a:stretch/>
        </p:blipFill>
        <p:spPr>
          <a:xfrm>
            <a:off x="826920" y="914400"/>
            <a:ext cx="4278600" cy="5791320"/>
          </a:xfrm>
          <a:prstGeom prst="rect">
            <a:avLst/>
          </a:prstGeom>
          <a:ln w="9360">
            <a:solidFill>
              <a:srgbClr val="66ffff"/>
            </a:solidFill>
            <a:miter/>
          </a:ln>
        </p:spPr>
      </p:pic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Fine Structure Constant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ectron’s velocity in the Bohr mod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ground stat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.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/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~ less than 1% of the speed of l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atio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e structure const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035" descr=""/>
          <p:cNvPicPr/>
          <p:nvPr/>
        </p:nvPicPr>
        <p:blipFill>
          <a:blip r:embed="rId1"/>
          <a:stretch/>
        </p:blipFill>
        <p:spPr>
          <a:xfrm>
            <a:off x="3502080" y="2111400"/>
            <a:ext cx="2139840" cy="7779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036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714840" cy="853920"/>
          </a:xfrm>
          <a:prstGeom prst="rect">
            <a:avLst/>
          </a:prstGeom>
          <a:ln w="0">
            <a:noFill/>
          </a:ln>
        </p:spPr>
      </p:pic>
      <p:sp>
        <p:nvSpPr>
          <p:cNvPr id="2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383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The Correspondence Principle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6840" y="3809520"/>
            <a:ext cx="822636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eed a principle to relate the new modern results with classical on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4"/>
          <p:cNvSpPr/>
          <p:nvPr/>
        </p:nvSpPr>
        <p:spPr>
          <a:xfrm>
            <a:off x="609480" y="1495440"/>
            <a:ext cx="3657600" cy="1143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Classical electrodynamics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55" name="Oval 5"/>
          <p:cNvSpPr/>
          <p:nvPr/>
        </p:nvSpPr>
        <p:spPr>
          <a:xfrm>
            <a:off x="4800600" y="1571760"/>
            <a:ext cx="3505320" cy="99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Bohr’s atomic model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56" name="AutoShape 6"/>
          <p:cNvSpPr/>
          <p:nvPr/>
        </p:nvSpPr>
        <p:spPr>
          <a:xfrm>
            <a:off x="2209680" y="2638440"/>
            <a:ext cx="4648320" cy="1095480"/>
          </a:xfrm>
          <a:prstGeom prst="downArrow">
            <a:avLst>
              <a:gd name="adj1" fmla="val 64750"/>
              <a:gd name="adj2" fmla="val 406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Determine the properties 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of radiation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57" name="AutoShape 8"/>
          <p:cNvSpPr/>
          <p:nvPr/>
        </p:nvSpPr>
        <p:spPr>
          <a:xfrm>
            <a:off x="546120" y="4619520"/>
            <a:ext cx="3048120" cy="990720"/>
          </a:xfrm>
          <a:prstGeom prst="rightArrow">
            <a:avLst>
              <a:gd name="adj1" fmla="val 75639"/>
              <a:gd name="adj2" fmla="val 961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Bohr’s correspondence </a:t>
            </a: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principle</a:t>
            </a: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58" name="Rectangle 10"/>
          <p:cNvSpPr/>
          <p:nvPr/>
        </p:nvSpPr>
        <p:spPr>
          <a:xfrm>
            <a:off x="3765600" y="4579920"/>
            <a:ext cx="5149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 the limits where classical and quantum theories should agree, the quantum theory must reduce the classical result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59" name="Rectangle 11"/>
          <p:cNvSpPr/>
          <p:nvPr/>
        </p:nvSpPr>
        <p:spPr>
          <a:xfrm>
            <a:off x="4315320" y="1752480"/>
            <a:ext cx="432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4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cc"/>
                </a:solidFill>
                <a:latin typeface="Arial"/>
              </a:rPr>
              <a:t>The Correspondence Principle</a:t>
            </a: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990720"/>
            <a:ext cx="8229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requency of the radiation emitted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classi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equal to the orbital frequency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r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electron around the nucle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should agree with the frequency of the transition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he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very large)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2259000" y="3530520"/>
            <a:ext cx="4187880" cy="13683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" descr=""/>
          <p:cNvPicPr/>
          <p:nvPr/>
        </p:nvPicPr>
        <p:blipFill>
          <a:blip r:embed="rId2"/>
          <a:stretch/>
        </p:blipFill>
        <p:spPr>
          <a:xfrm>
            <a:off x="3397320" y="5796000"/>
            <a:ext cx="2711520" cy="711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"/>
          <p:cNvPicPr/>
          <p:nvPr/>
        </p:nvPicPr>
        <p:blipFill>
          <a:blip r:embed="rId3"/>
          <a:stretch/>
        </p:blipFill>
        <p:spPr>
          <a:xfrm>
            <a:off x="3657600" y="5257800"/>
            <a:ext cx="1781280" cy="54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6" name="Object 7"/>
          <p:cNvGraphicFramePr/>
          <p:nvPr/>
        </p:nvGraphicFramePr>
        <p:xfrm>
          <a:off x="5365800" y="5931000"/>
          <a:ext cx="790560" cy="419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7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65800" y="5931000"/>
                    <a:ext cx="7905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Object 8"/>
          <p:cNvGraphicFramePr/>
          <p:nvPr/>
        </p:nvGraphicFramePr>
        <p:xfrm>
          <a:off x="2197080" y="3625920"/>
          <a:ext cx="557280" cy="419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69" name="Object 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97080" y="3625920"/>
                    <a:ext cx="55728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Object 9"/>
          <p:cNvGraphicFramePr/>
          <p:nvPr/>
        </p:nvGraphicFramePr>
        <p:xfrm>
          <a:off x="3557520" y="5295960"/>
          <a:ext cx="557280" cy="419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71" name="Object 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557520" y="5295960"/>
                    <a:ext cx="55728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Object 10"/>
          <p:cNvGraphicFramePr/>
          <p:nvPr/>
        </p:nvGraphicFramePr>
        <p:xfrm>
          <a:off x="3352680" y="5950080"/>
          <a:ext cx="557280" cy="4190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73" name="Object 10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352680" y="5950080"/>
                    <a:ext cx="55728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4" name="Picture 11" descr=""/>
          <p:cNvPicPr/>
          <p:nvPr/>
        </p:nvPicPr>
        <p:blipFill>
          <a:blip r:embed="rId12"/>
          <a:srcRect l="0" t="0" r="25657" b="0"/>
          <a:stretch/>
        </p:blipFill>
        <p:spPr>
          <a:xfrm>
            <a:off x="3627360" y="1798560"/>
            <a:ext cx="2962440" cy="79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5" name="Object 12"/>
          <p:cNvGraphicFramePr/>
          <p:nvPr/>
        </p:nvGraphicFramePr>
        <p:xfrm>
          <a:off x="3603600" y="2041560"/>
          <a:ext cx="790560" cy="419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6" name="Object 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603600" y="2041560"/>
                    <a:ext cx="7905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Object 13"/>
          <p:cNvGraphicFramePr/>
          <p:nvPr/>
        </p:nvGraphicFramePr>
        <p:xfrm>
          <a:off x="1486080" y="1851120"/>
          <a:ext cx="2903400" cy="722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78" name="Object 1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486080" y="1851120"/>
                    <a:ext cx="290340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79" name="Object 1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80" name="Text Box 15"/>
          <p:cNvSpPr/>
          <p:nvPr/>
        </p:nvSpPr>
        <p:spPr>
          <a:xfrm>
            <a:off x="609480" y="5257800"/>
            <a:ext cx="2354400" cy="117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larg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tituting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281" name="Picture 16" descr=""/>
          <p:cNvPicPr/>
          <p:nvPr/>
        </p:nvPicPr>
        <p:blipFill>
          <a:blip r:embed="rId17"/>
          <a:srcRect l="27639" t="0" r="34604" b="0"/>
          <a:stretch/>
        </p:blipFill>
        <p:spPr>
          <a:xfrm>
            <a:off x="6707160" y="1878120"/>
            <a:ext cx="1023840" cy="711000"/>
          </a:xfrm>
          <a:prstGeom prst="rect">
            <a:avLst/>
          </a:prstGeom>
          <a:ln w="0">
            <a:noFill/>
          </a:ln>
        </p:spPr>
      </p:pic>
      <p:sp>
        <p:nvSpPr>
          <p:cNvPr id="2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493560" y="2144520"/>
            <a:ext cx="8226720" cy="44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lls have letter nam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 she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 she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tom is most stable in it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nd st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it occurs in a heavy atom, the radiation emitted is 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-r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has the energ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-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−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6520" y="326880"/>
            <a:ext cx="4184640" cy="15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haracteristic X-Ray Spectra and Atomic Number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493560" y="4775040"/>
            <a:ext cx="629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lectron from highe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lls will fill the inner-shell vacancy at lower energy.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86" name="Line 5"/>
          <p:cNvSpPr/>
          <p:nvPr/>
        </p:nvSpPr>
        <p:spPr>
          <a:xfrm>
            <a:off x="2387520" y="33019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grpSp>
        <p:nvGrpSpPr>
          <p:cNvPr id="287" name="Group 6"/>
          <p:cNvGrpSpPr/>
          <p:nvPr/>
        </p:nvGrpSpPr>
        <p:grpSpPr>
          <a:xfrm>
            <a:off x="4929120" y="450720"/>
            <a:ext cx="3519360" cy="4243320"/>
            <a:chOff x="4929120" y="450720"/>
            <a:chExt cx="3519360" cy="4243320"/>
          </a:xfrm>
        </p:grpSpPr>
        <p:sp>
          <p:nvSpPr>
            <p:cNvPr id="288" name="Rectangle 7"/>
            <p:cNvSpPr/>
            <p:nvPr/>
          </p:nvSpPr>
          <p:spPr>
            <a:xfrm>
              <a:off x="4929120" y="450720"/>
              <a:ext cx="3519360" cy="424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pic>
          <p:nvPicPr>
            <p:cNvPr id="289" name="Picture 8" descr="0418"/>
            <p:cNvPicPr/>
            <p:nvPr/>
          </p:nvPicPr>
          <p:blipFill>
            <a:blip r:embed="rId1"/>
            <a:srcRect l="0" t="0" r="0" b="2809"/>
            <a:stretch/>
          </p:blipFill>
          <p:spPr>
            <a:xfrm>
              <a:off x="5122080" y="624240"/>
              <a:ext cx="3160440" cy="3888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18"/>
          <p:cNvSpPr/>
          <p:nvPr/>
        </p:nvSpPr>
        <p:spPr>
          <a:xfrm>
            <a:off x="762120" y="5791320"/>
            <a:ext cx="32763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5440" y="228600"/>
            <a:ext cx="3574800" cy="108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cc"/>
                </a:solidFill>
                <a:latin typeface="Arial"/>
              </a:rPr>
              <a:t>Atomic Number and Moseley</a:t>
            </a: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85440" y="1599840"/>
            <a:ext cx="736452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X-rays have nam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 shell to K shell:   K</a:t>
            </a:r>
            <a:r>
              <a:rPr b="0" i="1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-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shell to K shell:  K</a:t>
            </a:r>
            <a:r>
              <a:rPr b="0" i="1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-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J. Moseley studied X-ra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ission in 191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Atomic number Z = number of protons in the nucle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eley found a relationship between the frequencies of the characteristic X-ray and 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eley found this relati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ds for the K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-ra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4"/>
          <p:cNvGrpSpPr/>
          <p:nvPr/>
        </p:nvGrpSpPr>
        <p:grpSpPr>
          <a:xfrm>
            <a:off x="4689360" y="525600"/>
            <a:ext cx="3600360" cy="3444840"/>
            <a:chOff x="4689360" y="525600"/>
            <a:chExt cx="3600360" cy="3444840"/>
          </a:xfrm>
        </p:grpSpPr>
        <p:sp>
          <p:nvSpPr>
            <p:cNvPr id="295" name="Rectangle 5"/>
            <p:cNvSpPr/>
            <p:nvPr/>
          </p:nvSpPr>
          <p:spPr>
            <a:xfrm>
              <a:off x="4689360" y="525600"/>
              <a:ext cx="3600360" cy="3444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pic>
          <p:nvPicPr>
            <p:cNvPr id="296" name="Picture 6" descr="0418"/>
            <p:cNvPicPr/>
            <p:nvPr/>
          </p:nvPicPr>
          <p:blipFill>
            <a:blip r:embed="rId1"/>
            <a:srcRect l="0" t="0" r="0" b="2809"/>
            <a:stretch/>
          </p:blipFill>
          <p:spPr>
            <a:xfrm>
              <a:off x="4887000" y="666360"/>
              <a:ext cx="3233160" cy="315648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297" name="Object 7"/>
              <p:cNvSpPr txBox="1"/>
              <p:nvPr/>
            </p:nvSpPr>
            <p:spPr>
              <a:xfrm>
                <a:off x="4803840" y="5683320"/>
                <a:ext cx="249696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ν</m:t>
                        </m:r>
                      </m:e>
                      <m: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98" name="Group 8"/>
          <p:cNvGrpSpPr/>
          <p:nvPr/>
        </p:nvGrpSpPr>
        <p:grpSpPr>
          <a:xfrm>
            <a:off x="4626000" y="473040"/>
            <a:ext cx="3718800" cy="3794040"/>
            <a:chOff x="4626000" y="473040"/>
            <a:chExt cx="3718800" cy="3794040"/>
          </a:xfrm>
        </p:grpSpPr>
        <p:grpSp>
          <p:nvGrpSpPr>
            <p:cNvPr id="299" name="Group 9"/>
            <p:cNvGrpSpPr/>
            <p:nvPr/>
          </p:nvGrpSpPr>
          <p:grpSpPr>
            <a:xfrm>
              <a:off x="4626000" y="473040"/>
              <a:ext cx="3718800" cy="3794040"/>
              <a:chOff x="4626000" y="473040"/>
              <a:chExt cx="3718800" cy="3794040"/>
            </a:xfrm>
          </p:grpSpPr>
          <p:sp>
            <p:nvSpPr>
              <p:cNvPr id="300" name="Rectangle 10"/>
              <p:cNvSpPr/>
              <p:nvPr/>
            </p:nvSpPr>
            <p:spPr>
              <a:xfrm>
                <a:off x="4626000" y="473040"/>
                <a:ext cx="3718800" cy="379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33"/>
                  </a:solidFill>
                  <a:latin typeface="Arial"/>
                </a:endParaRPr>
              </a:p>
            </p:txBody>
          </p:sp>
          <p:pic>
            <p:nvPicPr>
              <p:cNvPr id="301" name="Picture 11" descr="0319"/>
              <p:cNvPicPr/>
              <p:nvPr/>
            </p:nvPicPr>
            <p:blipFill>
              <a:blip r:embed="rId2"/>
              <a:srcRect l="0" t="0" r="0" b="2640"/>
              <a:stretch/>
            </p:blipFill>
            <p:spPr>
              <a:xfrm>
                <a:off x="4767840" y="590040"/>
                <a:ext cx="3450600" cy="3591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02" name="Group 12"/>
            <p:cNvGrpSpPr/>
            <p:nvPr/>
          </p:nvGrpSpPr>
          <p:grpSpPr>
            <a:xfrm>
              <a:off x="6944760" y="651240"/>
              <a:ext cx="884160" cy="475200"/>
              <a:chOff x="6944760" y="651240"/>
              <a:chExt cx="884160" cy="475200"/>
            </a:xfrm>
          </p:grpSpPr>
          <p:sp>
            <p:nvSpPr>
              <p:cNvPr id="303" name="Text Box 13"/>
              <p:cNvSpPr/>
              <p:nvPr/>
            </p:nvSpPr>
            <p:spPr>
              <a:xfrm>
                <a:off x="7239960" y="651240"/>
                <a:ext cx="588960" cy="4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1" i="1" lang="en-US" sz="22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200" spc="-1" strike="noStrike">
                  <a:solidFill>
                    <a:srgbClr val="006633"/>
                  </a:solidFill>
                  <a:latin typeface="Arial"/>
                </a:endParaRPr>
              </a:p>
            </p:txBody>
          </p:sp>
          <p:sp>
            <p:nvSpPr>
              <p:cNvPr id="304" name="Line 14"/>
              <p:cNvSpPr/>
              <p:nvPr/>
            </p:nvSpPr>
            <p:spPr>
              <a:xfrm flipH="1">
                <a:off x="6944760" y="895320"/>
                <a:ext cx="360000" cy="174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33"/>
                  </a:solidFill>
                  <a:latin typeface="Arial"/>
                </a:endParaRPr>
              </a:p>
            </p:txBody>
          </p:sp>
        </p:grpSp>
        <p:grpSp>
          <p:nvGrpSpPr>
            <p:cNvPr id="305" name="Group 15"/>
            <p:cNvGrpSpPr/>
            <p:nvPr/>
          </p:nvGrpSpPr>
          <p:grpSpPr>
            <a:xfrm>
              <a:off x="5685840" y="613080"/>
              <a:ext cx="870840" cy="494640"/>
              <a:chOff x="5685840" y="613080"/>
              <a:chExt cx="870840" cy="494640"/>
            </a:xfrm>
          </p:grpSpPr>
          <p:sp>
            <p:nvSpPr>
              <p:cNvPr id="306" name="Text Box 16"/>
              <p:cNvSpPr/>
              <p:nvPr/>
            </p:nvSpPr>
            <p:spPr>
              <a:xfrm>
                <a:off x="5685840" y="613080"/>
                <a:ext cx="588960" cy="4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1" i="1" lang="en-US" sz="22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2200" spc="-1" strike="noStrike">
                  <a:solidFill>
                    <a:srgbClr val="006633"/>
                  </a:solidFill>
                  <a:latin typeface="Arial"/>
                </a:endParaRPr>
              </a:p>
            </p:txBody>
          </p:sp>
          <p:sp>
            <p:nvSpPr>
              <p:cNvPr id="307" name="Line 17"/>
              <p:cNvSpPr/>
              <p:nvPr/>
            </p:nvSpPr>
            <p:spPr>
              <a:xfrm>
                <a:off x="6196680" y="933120"/>
                <a:ext cx="360000" cy="174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33"/>
                  </a:solidFill>
                  <a:latin typeface="Arial"/>
                </a:endParaRPr>
              </a:p>
            </p:txBody>
          </p:sp>
        </p:grpSp>
      </p:grpSp>
      <p:sp>
        <p:nvSpPr>
          <p:cNvPr id="3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Moseley’s Empirical Results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X ray is produced from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2 to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1 transiti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 general, the K series of X-ray wavelengths a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oseley’s research clarified the importance of the electron shells for all the elements, not just for hydroge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6"/>
          <p:cNvSpPr/>
          <p:nvPr/>
        </p:nvSpPr>
        <p:spPr>
          <a:xfrm>
            <a:off x="4343400" y="3836880"/>
            <a:ext cx="457200" cy="1143000"/>
          </a:xfrm>
          <a:prstGeom prst="downArrow">
            <a:avLst>
              <a:gd name="adj1" fmla="val 50000"/>
              <a:gd name="adj2" fmla="val 6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312" name="Picture 9" descr=""/>
          <p:cNvPicPr/>
          <p:nvPr/>
        </p:nvPicPr>
        <p:blipFill>
          <a:blip r:embed="rId1"/>
          <a:stretch/>
        </p:blipFill>
        <p:spPr>
          <a:xfrm>
            <a:off x="1765440" y="2895480"/>
            <a:ext cx="5613120" cy="803520"/>
          </a:xfrm>
          <a:prstGeom prst="rect">
            <a:avLst/>
          </a:prstGeom>
          <a:ln w="0">
            <a:noFill/>
          </a:ln>
        </p:spPr>
      </p:pic>
      <p:sp>
        <p:nvSpPr>
          <p:cNvPr id="3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4.7: Atomic Excitation by Electrons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6840" y="1143000"/>
            <a:ext cx="8226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ranck and Hertz studied the phenomenon of ionizati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ccelerating voltage is below 5 V.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lectrons did not lose energ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ccelerating voltage is above 5 V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udden drop in the curren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5"/>
          <p:cNvSpPr/>
          <p:nvPr/>
        </p:nvSpPr>
        <p:spPr>
          <a:xfrm>
            <a:off x="660240" y="519444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17" name="Line 6"/>
          <p:cNvSpPr/>
          <p:nvPr/>
        </p:nvSpPr>
        <p:spPr>
          <a:xfrm>
            <a:off x="660240" y="598176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318" name="Picture 7" descr="0420"/>
          <p:cNvPicPr/>
          <p:nvPr/>
        </p:nvPicPr>
        <p:blipFill>
          <a:blip r:embed="rId1"/>
          <a:stretch/>
        </p:blipFill>
        <p:spPr>
          <a:xfrm>
            <a:off x="2187720" y="1631880"/>
            <a:ext cx="4768560" cy="2838600"/>
          </a:xfrm>
          <a:prstGeom prst="rect">
            <a:avLst/>
          </a:prstGeom>
          <a:ln w="0">
            <a:noFill/>
          </a:ln>
        </p:spPr>
      </p:pic>
      <p:sp>
        <p:nvSpPr>
          <p:cNvPr id="3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Atomic Excitation by Electrons</a:t>
            </a: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879120"/>
            <a:ext cx="8229600" cy="133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round state has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o be zer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rst excited state has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energy difference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0 =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xcitation energy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7"/>
          <p:cNvSpPr/>
          <p:nvPr/>
        </p:nvSpPr>
        <p:spPr>
          <a:xfrm>
            <a:off x="4572000" y="2286000"/>
            <a:ext cx="441972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12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g has an excitation energy of 4.88 eV in the first excited state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o energy can be transferred to Hg below 4.88 eV because not enough energy is available to excite an electron to the next energy level 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23" name="Text Box 8"/>
          <p:cNvSpPr/>
          <p:nvPr/>
        </p:nvSpPr>
        <p:spPr>
          <a:xfrm>
            <a:off x="380880" y="5349960"/>
            <a:ext cx="87631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88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bove 4.88 eV, the current drops because scattered electrons no longer reach the collector until the accelerating voltage reaches 9.8 eV and so on.</a:t>
            </a:r>
            <a:endParaRPr b="0" lang="en-US" sz="19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324" name="Picture 10" descr="0421"/>
          <p:cNvPicPr/>
          <p:nvPr/>
        </p:nvPicPr>
        <p:blipFill>
          <a:blip r:embed="rId1"/>
          <a:stretch/>
        </p:blipFill>
        <p:spPr>
          <a:xfrm>
            <a:off x="506520" y="2209680"/>
            <a:ext cx="3684600" cy="3084480"/>
          </a:xfrm>
          <a:prstGeom prst="rect">
            <a:avLst/>
          </a:prstGeom>
          <a:ln w="0">
            <a:noFill/>
          </a:ln>
        </p:spPr>
      </p:pic>
      <p:sp>
        <p:nvSpPr>
          <p:cNvPr id="3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More details on the Bohr Model</a:t>
            </a: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5400" y="1066680"/>
            <a:ext cx="82263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electron and hydrogen nucleus actually revolved about their mutual center of mas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electron mass is replaced by its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educed mas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Rydberg constant for infinite nuclear mass is replaced by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11" descr="0417"/>
          <p:cNvPicPr/>
          <p:nvPr/>
        </p:nvPicPr>
        <p:blipFill>
          <a:blip r:embed="rId1"/>
          <a:stretch/>
        </p:blipFill>
        <p:spPr>
          <a:xfrm>
            <a:off x="3021120" y="1689120"/>
            <a:ext cx="3101760" cy="12826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2" descr=""/>
          <p:cNvPicPr/>
          <p:nvPr/>
        </p:nvPicPr>
        <p:blipFill>
          <a:blip r:embed="rId2"/>
          <a:stretch/>
        </p:blipFill>
        <p:spPr>
          <a:xfrm>
            <a:off x="3375000" y="3403440"/>
            <a:ext cx="2394000" cy="9874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3" descr=""/>
          <p:cNvPicPr/>
          <p:nvPr/>
        </p:nvPicPr>
        <p:blipFill>
          <a:blip r:embed="rId3"/>
          <a:stretch/>
        </p:blipFill>
        <p:spPr>
          <a:xfrm>
            <a:off x="2593800" y="4927680"/>
            <a:ext cx="3956400" cy="939600"/>
          </a:xfrm>
          <a:prstGeom prst="rect">
            <a:avLst/>
          </a:prstGeom>
          <a:ln w="0">
            <a:noFill/>
          </a:ln>
        </p:spPr>
      </p:pic>
      <p:sp>
        <p:nvSpPr>
          <p:cNvPr id="3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95000" y="15238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omson’s “plum-pudding” model of the atom had the positive charges spread uniformly throughout a sphere the size of the atom, with electrons embedded in the uniform backgrou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omson’s view, when the atom was heated, the electrons could vibrate about their equilibrium positions, thus producing electromagnetic radi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0401"/>
          <p:cNvPicPr/>
          <p:nvPr/>
        </p:nvPicPr>
        <p:blipFill>
          <a:blip r:embed="rId1"/>
          <a:stretch/>
        </p:blipFill>
        <p:spPr>
          <a:xfrm>
            <a:off x="3429000" y="2514600"/>
            <a:ext cx="2133720" cy="21225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456840" y="277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Thomson’s Atomic Model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Limitations of the Bohr Model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Bohr model was a great step of the new quantum theory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ut it had its limitation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orks only to single-electron atom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uld not account for the intensities or the fine structure of the spectral lin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uld not explain the binding of atoms into molecul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023480"/>
            <a:ext cx="8383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umber of atoms in gold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the distance between atoms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"/>
          <p:cNvPicPr/>
          <p:nvPr/>
        </p:nvPicPr>
        <p:blipFill>
          <a:blip r:embed="rId1"/>
          <a:stretch/>
        </p:blipFill>
        <p:spPr>
          <a:xfrm>
            <a:off x="1219320" y="4876920"/>
            <a:ext cx="7391160" cy="687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"/>
          <p:cNvPicPr/>
          <p:nvPr/>
        </p:nvPicPr>
        <p:blipFill>
          <a:blip r:embed="rId2"/>
          <a:stretch/>
        </p:blipFill>
        <p:spPr>
          <a:xfrm>
            <a:off x="1486080" y="2014560"/>
            <a:ext cx="4749480" cy="485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"/>
          <p:cNvPicPr/>
          <p:nvPr/>
        </p:nvPicPr>
        <p:blipFill>
          <a:blip r:embed="rId3"/>
          <a:stretch/>
        </p:blipFill>
        <p:spPr>
          <a:xfrm>
            <a:off x="3505320" y="2452680"/>
            <a:ext cx="4298760" cy="561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"/>
          <p:cNvPicPr/>
          <p:nvPr/>
        </p:nvPicPr>
        <p:blipFill>
          <a:blip r:embed="rId4"/>
          <a:stretch/>
        </p:blipFill>
        <p:spPr>
          <a:xfrm>
            <a:off x="3333600" y="3718080"/>
            <a:ext cx="3292560" cy="485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4" descr=""/>
          <p:cNvPicPr/>
          <p:nvPr/>
        </p:nvPicPr>
        <p:blipFill>
          <a:blip r:embed="rId5"/>
          <a:stretch/>
        </p:blipFill>
        <p:spPr>
          <a:xfrm>
            <a:off x="3333600" y="3086280"/>
            <a:ext cx="3711600" cy="54576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16"/>
          <p:cNvSpPr/>
          <p:nvPr/>
        </p:nvSpPr>
        <p:spPr>
          <a:xfrm>
            <a:off x="457200" y="277920"/>
            <a:ext cx="82263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Radius of an Atom:</a:t>
            </a:r>
            <a:endParaRPr b="0" lang="en-US" sz="34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Experiments of Geiger and Marsden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48769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utherford, Geiger, and Marsden conceived a new technique for investigating the structure of matter by scattering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particles from atom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eiger showed that some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particles were scattered from thin gold-leaf targets at backward angles greater than 90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0402"/>
          <p:cNvPicPr/>
          <p:nvPr/>
        </p:nvPicPr>
        <p:blipFill>
          <a:blip r:embed="rId1"/>
          <a:stretch/>
        </p:blipFill>
        <p:spPr>
          <a:xfrm>
            <a:off x="5562720" y="1295280"/>
            <a:ext cx="3200400" cy="46976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609480" y="4495680"/>
            <a:ext cx="40435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lectrons can’t back-scatter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particles.</a:t>
            </a:r>
            <a:endParaRPr b="0" lang="en-US" sz="2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Scattering from 1 electron: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8155080" cy="38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ximum scattering angle corresponding to the maximum momentum chan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um momentum change of th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rticle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letting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a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 perpendicular to the direction of mo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1" descr=""/>
          <p:cNvPicPr/>
          <p:nvPr/>
        </p:nvPicPr>
        <p:blipFill>
          <a:blip r:embed="rId1"/>
          <a:stretch/>
        </p:blipFill>
        <p:spPr>
          <a:xfrm>
            <a:off x="5451480" y="3394080"/>
            <a:ext cx="1666800" cy="339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2" descr=""/>
          <p:cNvPicPr/>
          <p:nvPr/>
        </p:nvPicPr>
        <p:blipFill>
          <a:blip r:embed="rId2"/>
          <a:stretch/>
        </p:blipFill>
        <p:spPr>
          <a:xfrm>
            <a:off x="1535040" y="5356080"/>
            <a:ext cx="5854680" cy="727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3" descr=""/>
          <p:cNvPicPr/>
          <p:nvPr/>
        </p:nvPicPr>
        <p:blipFill>
          <a:blip r:embed="rId3"/>
          <a:stretch/>
        </p:blipFill>
        <p:spPr>
          <a:xfrm>
            <a:off x="1549440" y="3390840"/>
            <a:ext cx="3448080" cy="339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4" descr="0404"/>
          <p:cNvPicPr/>
          <p:nvPr/>
        </p:nvPicPr>
        <p:blipFill>
          <a:blip r:embed="rId4"/>
          <a:srcRect l="0" t="0" r="0" b="9010"/>
          <a:stretch/>
        </p:blipFill>
        <p:spPr>
          <a:xfrm>
            <a:off x="3244680" y="4152960"/>
            <a:ext cx="2654640" cy="1219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5" descr="0403"/>
          <p:cNvPicPr/>
          <p:nvPr/>
        </p:nvPicPr>
        <p:blipFill>
          <a:blip r:embed="rId5"/>
          <a:srcRect l="0" t="0" r="0" b="10004"/>
          <a:stretch/>
        </p:blipFill>
        <p:spPr>
          <a:xfrm>
            <a:off x="1143000" y="1066680"/>
            <a:ext cx="6858000" cy="137016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023480"/>
            <a:ext cx="8383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n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ticle were scattered by many electrons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lectrons results in             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umber of atoms across the thin gold layer of 6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×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−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the distance between atoms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here 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giv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Multiple Scattering from Electrons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87" name="Picture 26" descr=""/>
          <p:cNvPicPr/>
          <p:nvPr/>
        </p:nvPicPr>
        <p:blipFill>
          <a:blip r:embed="rId1"/>
          <a:stretch/>
        </p:blipFill>
        <p:spPr>
          <a:xfrm>
            <a:off x="1968480" y="1341360"/>
            <a:ext cx="1263600" cy="327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9" descr=""/>
          <p:cNvPicPr/>
          <p:nvPr/>
        </p:nvPicPr>
        <p:blipFill>
          <a:blip r:embed="rId2"/>
          <a:stretch/>
        </p:blipFill>
        <p:spPr>
          <a:xfrm>
            <a:off x="2476440" y="4838760"/>
            <a:ext cx="3156120" cy="638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1" descr=""/>
          <p:cNvPicPr/>
          <p:nvPr/>
        </p:nvPicPr>
        <p:blipFill>
          <a:blip r:embed="rId3"/>
          <a:stretch/>
        </p:blipFill>
        <p:spPr>
          <a:xfrm>
            <a:off x="5372280" y="4325760"/>
            <a:ext cx="3619440" cy="336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0" descr=""/>
          <p:cNvPicPr/>
          <p:nvPr/>
        </p:nvPicPr>
        <p:blipFill>
          <a:blip r:embed="rId4"/>
          <a:stretch/>
        </p:blipFill>
        <p:spPr>
          <a:xfrm>
            <a:off x="1486080" y="2014560"/>
            <a:ext cx="4749480" cy="485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7" descr=""/>
          <p:cNvPicPr/>
          <p:nvPr/>
        </p:nvPicPr>
        <p:blipFill>
          <a:blip r:embed="rId5"/>
          <a:stretch/>
        </p:blipFill>
        <p:spPr>
          <a:xfrm>
            <a:off x="3505320" y="2452680"/>
            <a:ext cx="4298760" cy="561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8" descr=""/>
          <p:cNvPicPr/>
          <p:nvPr/>
        </p:nvPicPr>
        <p:blipFill>
          <a:blip r:embed="rId6"/>
          <a:stretch/>
        </p:blipFill>
        <p:spPr>
          <a:xfrm>
            <a:off x="3333600" y="3718080"/>
            <a:ext cx="3292560" cy="485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2" descr=""/>
          <p:cNvPicPr/>
          <p:nvPr/>
        </p:nvPicPr>
        <p:blipFill>
          <a:blip r:embed="rId7"/>
          <a:stretch/>
        </p:blipFill>
        <p:spPr>
          <a:xfrm>
            <a:off x="3333600" y="3086280"/>
            <a:ext cx="3711600" cy="545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3" descr=""/>
          <p:cNvPicPr/>
          <p:nvPr/>
        </p:nvPicPr>
        <p:blipFill>
          <a:blip r:embed="rId8"/>
          <a:stretch/>
        </p:blipFill>
        <p:spPr>
          <a:xfrm>
            <a:off x="2133720" y="5641920"/>
            <a:ext cx="3124080" cy="37800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0"/>
          <p:cNvSpPr/>
          <p:nvPr/>
        </p:nvSpPr>
        <p:spPr>
          <a:xfrm>
            <a:off x="455760" y="1066680"/>
            <a:ext cx="838332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ven if the </a:t>
            </a:r>
            <a:r>
              <a:rPr b="0" lang="el-GR" sz="21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particle scattered from all 79 electrons in each atom of gold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experimental results were not consistent with Thomson’s atomic model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utherford proposed that an atom has a positively charged core (nucleus) surrounded by the negative electrons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Rutherford’s Atomic Model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8" name="AutoShape 35"/>
          <p:cNvSpPr/>
          <p:nvPr/>
        </p:nvSpPr>
        <p:spPr>
          <a:xfrm>
            <a:off x="3962520" y="1676520"/>
            <a:ext cx="647640" cy="838080"/>
          </a:xfrm>
          <a:prstGeom prst="downArrow">
            <a:avLst>
              <a:gd name="adj1" fmla="val 49222"/>
              <a:gd name="adj2" fmla="val 6470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99" name="Picture 40" descr=""/>
          <p:cNvPicPr/>
          <p:nvPr/>
        </p:nvPicPr>
        <p:blipFill>
          <a:blip r:embed="rId1"/>
          <a:stretch/>
        </p:blipFill>
        <p:spPr>
          <a:xfrm>
            <a:off x="892080" y="1136520"/>
            <a:ext cx="1330560" cy="3366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42"/>
          <p:cNvSpPr/>
          <p:nvPr/>
        </p:nvSpPr>
        <p:spPr>
          <a:xfrm>
            <a:off x="2743200" y="4724280"/>
            <a:ext cx="5791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33"/>
                </a:solidFill>
                <a:latin typeface="Arial"/>
              </a:rPr>
              <a:t>The positive charge is concentrated in </a:t>
            </a: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6633"/>
                </a:solidFill>
                <a:uFillTx/>
                <a:latin typeface="Arial"/>
              </a:rPr>
              <a:t>a nucleus with a radius much smaller than 10</a:t>
            </a:r>
            <a:r>
              <a:rPr b="1" lang="en-US" sz="1800" spc="-1" strike="noStrike" u="sng" baseline="30000">
                <a:solidFill>
                  <a:srgbClr val="006633"/>
                </a:solidFill>
                <a:uFillTx/>
                <a:latin typeface="Arial"/>
              </a:rPr>
              <a:t>-10</a:t>
            </a:r>
            <a:r>
              <a:rPr b="1" lang="en-US" sz="1800" spc="-1" strike="noStrike" u="sng">
                <a:solidFill>
                  <a:srgbClr val="006633"/>
                </a:solidFill>
                <a:uFillTx/>
                <a:latin typeface="Arial"/>
              </a:rPr>
              <a:t> m</a:t>
            </a: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grpSp>
        <p:nvGrpSpPr>
          <p:cNvPr id="101" name="Group 43"/>
          <p:cNvGrpSpPr/>
          <p:nvPr/>
        </p:nvGrpSpPr>
        <p:grpSpPr>
          <a:xfrm>
            <a:off x="838080" y="4495680"/>
            <a:ext cx="1524240" cy="1524240"/>
            <a:chOff x="838080" y="4495680"/>
            <a:chExt cx="1524240" cy="1524240"/>
          </a:xfrm>
        </p:grpSpPr>
        <p:sp>
          <p:nvSpPr>
            <p:cNvPr id="102" name="Oval 44"/>
            <p:cNvSpPr/>
            <p:nvPr/>
          </p:nvSpPr>
          <p:spPr>
            <a:xfrm>
              <a:off x="1481040" y="5142960"/>
              <a:ext cx="239400" cy="227880"/>
            </a:xfrm>
            <a:prstGeom prst="ellipse">
              <a:avLst/>
            </a:prstGeom>
            <a:solidFill>
              <a:srgbClr val="cc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03" name="Oval 45"/>
            <p:cNvSpPr/>
            <p:nvPr/>
          </p:nvSpPr>
          <p:spPr>
            <a:xfrm>
              <a:off x="838080" y="4495680"/>
              <a:ext cx="1524240" cy="15242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04" name="Line 46"/>
            <p:cNvSpPr/>
            <p:nvPr/>
          </p:nvSpPr>
          <p:spPr>
            <a:xfrm>
              <a:off x="2109960" y="4694040"/>
              <a:ext cx="77040" cy="81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05" name="Oval 47"/>
            <p:cNvSpPr/>
            <p:nvPr/>
          </p:nvSpPr>
          <p:spPr>
            <a:xfrm>
              <a:off x="1885320" y="4532400"/>
              <a:ext cx="114840" cy="109080"/>
            </a:xfrm>
            <a:prstGeom prst="ellipse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</p:grp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2"/>
          <p:cNvSpPr/>
          <p:nvPr/>
        </p:nvSpPr>
        <p:spPr>
          <a:xfrm>
            <a:off x="457200" y="990720"/>
            <a:ext cx="86868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cattering experiments help us study matter too small to be observed directly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re is a relationship between the impact parameter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nd the scattering angle </a:t>
            </a:r>
            <a:r>
              <a:rPr b="0" i="1" lang="el-GR" sz="21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s small,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gets small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ulomb force gets large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l-GR" sz="21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can be large and the particle can be repelled backward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4.2: Rutherford Scattering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9" name="Line 49"/>
          <p:cNvSpPr/>
          <p:nvPr/>
        </p:nvSpPr>
        <p:spPr>
          <a:xfrm>
            <a:off x="1066680" y="453384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10" name="Line 51"/>
          <p:cNvSpPr/>
          <p:nvPr/>
        </p:nvSpPr>
        <p:spPr>
          <a:xfrm>
            <a:off x="1066680" y="49150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11" name="Line 52"/>
          <p:cNvSpPr/>
          <p:nvPr/>
        </p:nvSpPr>
        <p:spPr>
          <a:xfrm>
            <a:off x="1066680" y="416556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112" name="Picture 59" descr="0406"/>
          <p:cNvPicPr/>
          <p:nvPr/>
        </p:nvPicPr>
        <p:blipFill>
          <a:blip r:embed="rId1"/>
          <a:stretch/>
        </p:blipFill>
        <p:spPr>
          <a:xfrm>
            <a:off x="4876920" y="2057400"/>
            <a:ext cx="4024080" cy="2583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0" descr=""/>
          <p:cNvPicPr/>
          <p:nvPr/>
        </p:nvPicPr>
        <p:blipFill>
          <a:blip r:embed="rId2"/>
          <a:stretch/>
        </p:blipFill>
        <p:spPr>
          <a:xfrm>
            <a:off x="2170080" y="5181480"/>
            <a:ext cx="4803840" cy="86364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9T23:52:57Z</dcterms:created>
  <dc:creator>Anthony Pitucco</dc:creator>
  <dc:description/>
  <dc:language>en-US</dc:language>
  <cp:lastModifiedBy>LEGION</cp:lastModifiedBy>
  <dcterms:modified xsi:type="dcterms:W3CDTF">2017-01-26T09:36:06Z</dcterms:modified>
  <cp:revision>302</cp:revision>
  <dc:subject/>
  <dc:title>CHAPTER 4: Structure of the Atom</dc:title>
</cp:coreProperties>
</file>